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0E5A-EE72-4628-B9FD-03E5A18DF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7D10-5083-4312-AAE8-3BF2A582B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F54D-13E0-4098-A468-54A8F16C6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D208-50DE-41F3-AA31-57564CA86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E0F4-CF53-455C-B40A-1998305B8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26FC-6009-4EF2-ADAF-53ABF3D93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2D41-5BC9-4EC0-82B6-46C298D06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A2FA-2377-4818-AF94-B54A9F28C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C96F-D67D-483F-BAA8-07994CEB3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229F-DA68-4083-9D34-FC0C9151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58A5-1AEA-40D9-A144-3007A9B5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AB14-4F38-4EB2-9B82-C901483F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9EDBE-0C4D-4775-877E-8EFB90748A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083 Zem, počuj slávnu zves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iež tejto zvesti hla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všetkých končín zni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on m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svojich rukách č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Kráľom sveta je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em, počuj slávnu zvesť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Ježiš je tvoj Kráľ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z končín svet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ajov, miest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u znejú piesne chvá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iež duše mojej vzlet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u vrúcnu vďaku vzd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chráni dosiaľ celý svet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, Láska presvät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em, počuj spásy zvesť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Pán Ježiš je tvoj Kráľ!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jemu patrí sláva, če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za nás život d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prachu zemských ciest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a z lásky poníži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y z bahna hriechu tento svet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slávy povýši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em, počuj mieru zvesť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Pán Ježiš je tvoj Kráľ!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 pokoj sveta, ťarchu bied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seba z lásky vz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r mieru Božieh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nes každý môže ma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piesňou srdca vďačnéh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u vrúcnu chválu vzd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em, počuj večnú zvesť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Pán Ježiš je tvoj Kráľ!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ez neho nikde spásy niet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slávne zmŕtvychvst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2-13T07:41:09Z</dcterms:modified>
  <cp:revision>9</cp:revision>
  <dc:subject/>
  <dc:title>Je veľký náš Pán, on slávy je Kráľ Nech do všetkých strán  spev vrúcnych znie chvál.</dc:title>
</cp:coreProperties>
</file>